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40.png" ContentType="image/png"/>
  <Override PartName="/ppt/media/image13.gif" ContentType="image/gif"/>
  <Override PartName="/ppt/media/image16.jpeg" ContentType="image/jpeg"/>
  <Override PartName="/ppt/media/image30.png" ContentType="image/png"/>
  <Override PartName="/ppt/media/image42.png" ContentType="image/png"/>
  <Override PartName="/ppt/media/image43.wmf" ContentType="image/x-wmf"/>
  <Override PartName="/ppt/media/image44.png" ContentType="image/png"/>
  <Override PartName="/ppt/media/image8.gif" ContentType="image/gif"/>
  <Override PartName="/ppt/media/image6.png" ContentType="image/png"/>
  <Override PartName="/ppt/media/image36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3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10123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A8EE-178C-4308-B0B9-62EA53BA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5E2C-0ED7-419C-A9BB-FE5ED1DA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1EFD-EC3C-41E8-A08C-33F17CA7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E903-B530-4179-BF91-6030EA0B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1575-09D4-4989-86C9-6EA1E3E5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C655-E7EE-4CA9-9761-BE9F0DA6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58F5-E7E7-4510-9C9B-12DB9DFC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D441-3D4C-43FC-87A0-973F8716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9A64-9156-42E5-86B3-6C1B61A7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5E4C-E88B-42A3-874F-D40F4716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F493-99EB-45D3-AF44-17851027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B16A-5142-4973-A28F-C512723A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3EC3-2BB6-4587-A6BB-7FF497DC9B6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70E1-EF66-4FC9-81F4-F1BC7653A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6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3.wmf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image" Target="../media/image14.png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84240"/>
            <a:ext cx="91440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smological Aspects of </a:t>
            </a:r>
            <a:br>
              <a:rPr sz="4000"/>
            </a:b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ino Physics (II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87320" y="5481360"/>
            <a:ext cx="3202200" cy="4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ergio Pastor (IF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61st SUS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St Andrews, August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4200" y="5686560"/>
            <a:ext cx="2346120" cy="6015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6913440" y="5429160"/>
            <a:ext cx="1816200" cy="1066680"/>
            <a:chOff x="6913440" y="5429160"/>
            <a:chExt cx="1816200" cy="106668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7696080" y="5429160"/>
              <a:ext cx="1033560" cy="10666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6913440" y="5429160"/>
              <a:ext cx="766800" cy="106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951520" y="1463760"/>
            <a:ext cx="1959120" cy="235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156120" y="3691080"/>
            <a:ext cx="3135240" cy="16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754200" y="1639800"/>
            <a:ext cx="2733480" cy="2051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270320" y="2446200"/>
            <a:ext cx="865080" cy="69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59320" y="23194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imes New Roman"/>
              </a:rPr>
              <a:t>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20100000">
            <a:off x="5135040" y="2319120"/>
            <a:ext cx="924120" cy="396720"/>
          </a:xfrm>
          <a:prstGeom prst="leftRightArrow">
            <a:avLst>
              <a:gd name="adj1" fmla="val 50000"/>
              <a:gd name="adj2" fmla="val 4637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59320" y="3233880"/>
            <a:ext cx="517320" cy="684000"/>
          </a:xfrm>
          <a:prstGeom prst="upDownArrow">
            <a:avLst>
              <a:gd name="adj1" fmla="val 50000"/>
              <a:gd name="adj2" fmla="val 2632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500000">
            <a:off x="3349440" y="2319120"/>
            <a:ext cx="923760" cy="396720"/>
          </a:xfrm>
          <a:prstGeom prst="leftRightArrow">
            <a:avLst>
              <a:gd name="adj1" fmla="val 50000"/>
              <a:gd name="adj2" fmla="val 463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1240" y="-22680"/>
            <a:ext cx="888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smological bounds on neutrino masses using WMA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483080" y="2585880"/>
                <a:ext cx="816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aphicFrame>
        <p:nvGraphicFramePr>
          <p:cNvPr id="103" name=""/>
          <p:cNvGraphicFramePr/>
          <p:nvPr/>
        </p:nvGraphicFramePr>
        <p:xfrm>
          <a:off x="341280" y="1038240"/>
          <a:ext cx="8515440" cy="5245200"/>
        </p:xfrm>
        <a:graphic>
          <a:graphicData uri="http://schemas.openxmlformats.org/drawingml/2006/table">
            <a:tbl>
              <a:tblPr/>
              <a:tblGrid>
                <a:gridCol w="3684600"/>
                <a:gridCol w="2647800"/>
                <a:gridCol w="218304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Bound on </a:t>
                      </a:r>
                      <a:r>
                        <a:rPr b="0" lang="en-GB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Σm</a:t>
                      </a:r>
                      <a:r>
                        <a:rPr b="0" lang="en-GB" sz="15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ν </a:t>
                      </a:r>
                      <a:r>
                        <a:rPr b="0" lang="en-GB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(eV)</a:t>
                      </a:r>
                      <a:r>
                        <a:rPr b="0" lang="en-GB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95% CL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ta u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chikawa et al, PRD 71 (2005) 0430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ánchez et al, MNRAS 366 (2006) 1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cTavish et al, astro-ph/05075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1.6 -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5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CMB onl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nnestad, 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CAP 0305 (2003) 004</a:t>
                      </a: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DSS Coll., 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D 69 (2004) 1035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rger et al, PLB 595 (2004) 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tty et al, PRD 69 (2004) 123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bolo et al, MNRAS 353 (2004) 74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gli et al. PRD 70 (2004) 1130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ljak et al, 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D 71 (2005) 1035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ánchez et al, MNRAS 366 (2006) 1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cTavish et al, astro-ph/05075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1.0 - 1.7</a:t>
                      </a:r>
                      <a:r>
                        <a:rPr b="1" lang="en-GB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[0.6-1.2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5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WMAP1, other CMB, 2dF/SDSS-gal </a:t>
                      </a:r>
                      <a:r>
                        <a:rPr b="1" lang="da-DK" sz="15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[HST,SNIa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MAP Coll.,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J Suppl 148 (2003) 1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gli et al. PRD 70 (2004) 113003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ljak et al, 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D 71 (2005) 1035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cTavish et al, astro-ph/05075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nnestad, hep-ph/0409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0.42-0.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5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WMAP1, other CMB, 2dF/SDSS-gal, 2dF/SDSS-bias and/or Ly-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8480" y="-336960"/>
            <a:ext cx="888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smological bounds on neutrino masses using WMA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483080" y="2585880"/>
                <a:ext cx="816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aphicFrame>
        <p:nvGraphicFramePr>
          <p:cNvPr id="106" name=""/>
          <p:cNvGraphicFramePr/>
          <p:nvPr/>
        </p:nvGraphicFramePr>
        <p:xfrm>
          <a:off x="341280" y="581040"/>
          <a:ext cx="8454960" cy="3092400"/>
        </p:xfrm>
        <a:graphic>
          <a:graphicData uri="http://schemas.openxmlformats.org/drawingml/2006/table">
            <a:tbl>
              <a:tblPr/>
              <a:tblGrid>
                <a:gridCol w="3589200"/>
                <a:gridCol w="2811600"/>
                <a:gridCol w="2054160"/>
              </a:tblGrid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Bound on </a:t>
                      </a:r>
                      <a:r>
                        <a:rPr b="0" lang="en-GB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Σm</a:t>
                      </a:r>
                      <a:r>
                        <a:rPr b="0" lang="en-GB" sz="15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ν </a:t>
                      </a:r>
                      <a:r>
                        <a:rPr b="0" lang="en-GB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(eV)</a:t>
                      </a:r>
                      <a:r>
                        <a:rPr b="0" lang="en-GB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95% CL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ta u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MAP Coll., astro-ph/06034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kugita et al, astro-ph/06053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ristiansen et al, astro-ph/06080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1.7 – 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5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CMB onl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MAP Coll., astro-ph/06034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oobar et al, astro-ph/06021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0.68 – 0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5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WMAP3, other CMB, 2dF/SDSS-gal, SN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oobar et al, astro-ph/06021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ljak et al, astro-ph/06043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ristiansen et al, astro-ph/06080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0.17-0.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5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WMAP3, other CMB, 2dF/SDSS-gal, SDSS-BAO and/or Ly-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7" name=""/>
          <p:cNvGrpSpPr/>
          <p:nvPr/>
        </p:nvGrpSpPr>
        <p:grpSpPr>
          <a:xfrm>
            <a:off x="1541520" y="3714840"/>
            <a:ext cx="6431040" cy="2850120"/>
            <a:chOff x="1541520" y="3714840"/>
            <a:chExt cx="6431040" cy="285012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rcRect l="21451" t="0" r="0" b="0"/>
            <a:stretch/>
          </p:blipFill>
          <p:spPr>
            <a:xfrm>
              <a:off x="1541520" y="3714840"/>
              <a:ext cx="643104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492800" y="6227640"/>
              <a:ext cx="32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Comic Sans MS"/>
                </a:rPr>
                <a:t>Fogli et al., hep-ph/06080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2560" y="37800"/>
            <a:ext cx="84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Neutrino masses in 3-neutrino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78400" y="5891040"/>
            <a:ext cx="466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Fig from Strumia &amp; Vissani, NPB726(2005)2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09560" y="966960"/>
            <a:ext cx="5248440" cy="4924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37200" y="1181160"/>
            <a:ext cx="31068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CMB + galaxy clus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623960" y="2111400"/>
            <a:ext cx="7520040" cy="398880"/>
            <a:chOff x="1623960" y="2111400"/>
            <a:chExt cx="7520040" cy="398880"/>
          </a:xfrm>
        </p:grpSpPr>
        <p:sp>
          <p:nvSpPr>
            <p:cNvPr id="115" name=""/>
            <p:cNvSpPr/>
            <p:nvPr/>
          </p:nvSpPr>
          <p:spPr>
            <a:xfrm>
              <a:off x="6037200" y="2111400"/>
              <a:ext cx="3106800" cy="398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99"/>
                  </a:solidFill>
                  <a:latin typeface="Comic Sans MS"/>
                </a:rPr>
                <a:t>+ HST, SNI-a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23960" y="2111400"/>
              <a:ext cx="4094280" cy="371520"/>
            </a:xfrm>
            <a:prstGeom prst="rect">
              <a:avLst/>
            </a:prstGeom>
            <a:solidFill>
              <a:srgbClr val="000099">
                <a:alpha val="50000"/>
              </a:srgbClr>
            </a:solidFill>
            <a:ln w="64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23960" y="2482920"/>
            <a:ext cx="7520040" cy="398880"/>
            <a:chOff x="1623960" y="2482920"/>
            <a:chExt cx="7520040" cy="398880"/>
          </a:xfrm>
        </p:grpSpPr>
        <p:sp>
          <p:nvSpPr>
            <p:cNvPr id="118" name=""/>
            <p:cNvSpPr/>
            <p:nvPr/>
          </p:nvSpPr>
          <p:spPr>
            <a:xfrm>
              <a:off x="6037200" y="2482920"/>
              <a:ext cx="3106800" cy="398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+ </a:t>
              </a:r>
              <a:r>
                <a:rPr b="1" lang="da-DK" sz="2000" spc="-1" strike="noStrike">
                  <a:solidFill>
                    <a:srgbClr val="ff0000"/>
                  </a:solidFill>
                  <a:latin typeface="Comic Sans MS"/>
                </a:rPr>
                <a:t>BAO</a:t>
              </a: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 and/or b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23960" y="2482920"/>
              <a:ext cx="4094280" cy="3650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623960" y="2847960"/>
            <a:ext cx="7520040" cy="646200"/>
            <a:chOff x="1623960" y="2847960"/>
            <a:chExt cx="7520040" cy="646200"/>
          </a:xfrm>
        </p:grpSpPr>
        <p:sp>
          <p:nvSpPr>
            <p:cNvPr id="121" name=""/>
            <p:cNvSpPr/>
            <p:nvPr/>
          </p:nvSpPr>
          <p:spPr>
            <a:xfrm>
              <a:off x="6037200" y="3051000"/>
              <a:ext cx="3106800" cy="398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+ including </a:t>
              </a:r>
              <a:r>
                <a:rPr b="0" lang="da-DK" sz="2000" spc="-1" strike="noStrike">
                  <a:solidFill>
                    <a:srgbClr val="ff0000"/>
                  </a:solidFill>
                  <a:latin typeface="Comic Sans MS"/>
                </a:rPr>
                <a:t>Ly-</a:t>
              </a:r>
              <a:r>
                <a:rPr b="0" lang="da-DK" sz="2000" spc="-1" strike="noStrike">
                  <a:solidFill>
                    <a:srgbClr val="ff0000"/>
                  </a:solidFill>
                  <a:latin typeface="Times New Roman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23960" y="2847960"/>
              <a:ext cx="4094280" cy="6462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4535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Tritium </a:t>
            </a:r>
            <a:r>
              <a:rPr b="1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 decay, 0</a:t>
            </a:r>
            <a:r>
              <a:rPr b="1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 and Cosm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840" y="4889520"/>
            <a:ext cx="18525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Fogli et al.,</a:t>
            </a:r>
            <a:r>
              <a:rPr b="0" lang="en-GB" sz="1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hep-ph/06080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74840" y="770040"/>
            <a:ext cx="6429600" cy="5972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6315120"/>
            <a:ext cx="3843360" cy="40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2840" y="971640"/>
            <a:ext cx="3095640" cy="40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"/>
          <p:cNvSpPr/>
          <p:nvPr/>
        </p:nvSpPr>
        <p:spPr>
          <a:xfrm flipV="1">
            <a:off x="1895400" y="5470560"/>
            <a:ext cx="696960" cy="844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4080" y="1374840"/>
            <a:ext cx="1298520" cy="571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4535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0</a:t>
            </a:r>
            <a:r>
              <a:rPr b="1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 and Cosm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840" y="4889520"/>
            <a:ext cx="30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Fogli et al., hep-ph/06080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224160" y="1017720"/>
            <a:ext cx="5254200" cy="5046120"/>
            <a:chOff x="3224160" y="1017720"/>
            <a:chExt cx="5254200" cy="504612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3224160" y="1017720"/>
              <a:ext cx="5254200" cy="50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092360" y="1323360"/>
              <a:ext cx="600840" cy="40060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881440" y="1003320"/>
            <a:ext cx="5373720" cy="5533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881440" y="1003320"/>
            <a:ext cx="5597280" cy="5533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23840" y="770040"/>
            <a:ext cx="4311720" cy="45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 flipH="1" flipV="1">
            <a:off x="1272960" y="1244520"/>
            <a:ext cx="1950840" cy="2222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9560" y="111240"/>
            <a:ext cx="822672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00"/>
                </a:solidFill>
                <a:latin typeface="Comic Sans MS"/>
              </a:rPr>
              <a:t>Parameter degeneracy: Neutrino mass and 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9560" y="749160"/>
            <a:ext cx="831060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cosmological models with more parameters the neutrino mass bounds can be relax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Ex: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quintessence-like dark energy with </a:t>
            </a:r>
            <a:r>
              <a:rPr b="0" lang="el-GR" sz="2000" spc="-1" strike="noStrike">
                <a:solidFill>
                  <a:srgbClr val="ffff00"/>
                </a:solidFill>
                <a:latin typeface="Comic Sans MS"/>
              </a:rPr>
              <a:t>ρ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Comic Sans MS"/>
              </a:rPr>
              <a:t>DE</a:t>
            </a: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=w p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Comic Sans MS"/>
              </a:rPr>
              <a:t>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882800" y="1947960"/>
            <a:ext cx="6783480" cy="4425120"/>
            <a:chOff x="1882800" y="1947960"/>
            <a:chExt cx="6783480" cy="44251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1882800" y="1947960"/>
              <a:ext cx="5637240" cy="40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478480" y="6035760"/>
              <a:ext cx="318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WMAP Coll, 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Comic Sans MS"/>
                </a:rPr>
                <a:t>astro-ph/0607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60760" y="3179880"/>
              <a:ext cx="43956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58280" y="2752560"/>
              <a:ext cx="349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200" spc="-1" strike="noStrike">
                  <a:solidFill>
                    <a:srgbClr val="ff3300"/>
                  </a:solidFill>
                  <a:latin typeface="Comic Sans MS"/>
                </a:rPr>
                <a:t>Λ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93600" y="1098720"/>
            <a:ext cx="7355160" cy="40179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 T&lt;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the radiation content of the Univer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Effective number of relativistic neutrino 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ditional parametrization of the energy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ored in relativistic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31960" y="2104920"/>
            <a:ext cx="5867280" cy="1067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6408720" y="2284560"/>
            <a:ext cx="635040" cy="63000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761080" y="2766960"/>
            <a:ext cx="649080" cy="55584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Relativistic particles in the Unive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17680" y="1257480"/>
            <a:ext cx="8175600" cy="3360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tra radiation can b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90000"/>
                </a:solidFill>
                <a:latin typeface="Comic Sans MS"/>
              </a:rPr>
              <a:t>scalars, pseudoscalars, sterile neutrinos (totally or partiall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90000"/>
                </a:solidFill>
                <a:latin typeface="Comic Sans MS"/>
              </a:rPr>
              <a:t>thermalized, bulk), neutrinos in very low-energy rehea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90000"/>
                </a:solidFill>
                <a:latin typeface="Comic Sans MS"/>
              </a:rPr>
              <a:t>scenarios, relativistic decay products of heavy particles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rticular case: </a:t>
            </a:r>
            <a:r>
              <a:rPr b="0" lang="en-GB" sz="2400" spc="-1" strike="noStrike">
                <a:solidFill>
                  <a:srgbClr val="990000"/>
                </a:solidFill>
                <a:latin typeface="Comic Sans MS"/>
              </a:rPr>
              <a:t>relic neutrino asymme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7680" y="5062680"/>
            <a:ext cx="8175600" cy="927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nstraints on N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eff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from BBN and from CMB+L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4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Extra relativistic partic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41040" y="255240"/>
            <a:ext cx="71168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ffect of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ef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t later epoc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5360" y="1206360"/>
            <a:ext cx="891864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eff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modifies the radiation conten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Comic Sans MS"/>
              </a:rPr>
              <a:t>Changes the epoch of matter-radiation equival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5360" y="2373480"/>
            <a:ext cx="4545000" cy="3192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795320" y="268596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73520" y="430704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54600" y="2395440"/>
            <a:ext cx="4289400" cy="3090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573960" y="3511440"/>
            <a:ext cx="245880" cy="376200"/>
          </a:xfrm>
          <a:prstGeom prst="downArrow">
            <a:avLst>
              <a:gd name="adj1" fmla="val 50000"/>
              <a:gd name="adj2" fmla="val 3825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0200" y="3268800"/>
            <a:ext cx="336600" cy="242640"/>
          </a:xfrm>
          <a:prstGeom prst="leftArrow">
            <a:avLst>
              <a:gd name="adj1" fmla="val 50000"/>
              <a:gd name="adj2" fmla="val 3468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CMB+LSS: allowed ranges for N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Comic Sans MS"/>
              </a:rPr>
              <a:t>e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9040" y="1547640"/>
            <a:ext cx="777240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Set of parameters: ( Ω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GB" sz="2200" spc="-1" strike="noStrike" baseline="30000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, Ω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Comic Sans MS"/>
              </a:rPr>
              <a:t>cdm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GB" sz="2200" spc="-1" strike="noStrike" baseline="30000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, h , n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Comic Sans MS"/>
              </a:rPr>
              <a:t>s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, A , b , N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Comic Sans MS"/>
              </a:rPr>
              <a:t>eff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DATA: WMAP + other CMB + LSS + HST (+ SN-I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Flat Mod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Non-flat Mod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Recent resul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630520" y="4105440"/>
            <a:ext cx="6124320" cy="1139760"/>
            <a:chOff x="2630520" y="4105440"/>
            <a:chExt cx="6124320" cy="1139760"/>
          </a:xfrm>
        </p:grpSpPr>
        <p:sp>
          <p:nvSpPr>
            <p:cNvPr id="165" name=""/>
            <p:cNvSpPr/>
            <p:nvPr/>
          </p:nvSpPr>
          <p:spPr>
            <a:xfrm>
              <a:off x="5141880" y="4318200"/>
              <a:ext cx="361296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Pierpaoli, MNRAS 342 (200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81080" y="4105440"/>
              <a:ext cx="2213280" cy="87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3097080" y="4307040"/>
                  <a:ext cx="167328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f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bSup>
                        <m:e>
                          <m:r>
                            <m:t xml:space="preserve">1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9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0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2630520" y="4946760"/>
              <a:ext cx="15015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95% 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357200" y="2563920"/>
            <a:ext cx="7282080" cy="1407240"/>
            <a:chOff x="1357200" y="2563920"/>
            <a:chExt cx="7282080" cy="1407240"/>
          </a:xfrm>
        </p:grpSpPr>
        <p:sp>
          <p:nvSpPr>
            <p:cNvPr id="170" name=""/>
            <p:cNvSpPr/>
            <p:nvPr/>
          </p:nvSpPr>
          <p:spPr>
            <a:xfrm>
              <a:off x="1357200" y="3633840"/>
              <a:ext cx="399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rotty, Lesgourgues &amp; SP, PRD 67 (200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76360" y="2563920"/>
              <a:ext cx="2212920" cy="87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2693880" y="2757600"/>
                  <a:ext cx="169848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f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bSup>
                        <m:e>
                          <m:r>
                            <m:t xml:space="preserve">5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3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73" name=""/>
            <p:cNvSpPr/>
            <p:nvPr/>
          </p:nvSpPr>
          <p:spPr>
            <a:xfrm>
              <a:off x="4392360" y="2563920"/>
              <a:ext cx="150192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95% 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92680" y="2563920"/>
              <a:ext cx="2212920" cy="87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95560" y="3633840"/>
              <a:ext cx="29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Hannestad, JCAP 0305 (200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5937120" y="2757600"/>
                  <a:ext cx="172404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f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bSup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0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7" name=""/>
          <p:cNvSpPr/>
          <p:nvPr/>
        </p:nvSpPr>
        <p:spPr>
          <a:xfrm>
            <a:off x="5029200" y="5643720"/>
            <a:ext cx="39322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Hannestad &amp; Raffelt, astro-ph/0607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68760" y="5430960"/>
            <a:ext cx="2212920" cy="87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784600" y="5643720"/>
                <a:ext cx="207324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2517840" y="6272280"/>
            <a:ext cx="15015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5% 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440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Neutrino Physics and Cosm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97240" y="1373040"/>
            <a:ext cx="4248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rd l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4400" y="2054160"/>
            <a:ext cx="7772400" cy="63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Bounds on m</a:t>
            </a:r>
            <a:r>
              <a:rPr b="1" lang="el-G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 from CMB, LSS and other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4400" y="2984400"/>
            <a:ext cx="7772400" cy="631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Bounds on the radiation content (N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eff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4400" y="3906720"/>
            <a:ext cx="7772400" cy="63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Future sensitivities on m</a:t>
            </a:r>
            <a:r>
              <a:rPr b="1" lang="el-GR" sz="2200" spc="-1" strike="noStrike" baseline="-25000">
                <a:solidFill>
                  <a:srgbClr val="000000"/>
                </a:solidFill>
                <a:latin typeface="Times New Roman"/>
              </a:rPr>
              <a:t>ν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 from cosm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28080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Future bounds on </a:t>
            </a: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Comic Sans MS"/>
              </a:rPr>
              <a:t>eff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139760"/>
            <a:ext cx="824076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ext CMB data from WMAP and PLANCK (other CMB experiments on large l’s) temperature and polarization spec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Forecast analysis in Ω</a:t>
            </a:r>
            <a:r>
              <a:rPr b="0" lang="en-GB" sz="2000" spc="-1" strike="noStrike" baseline="-25000">
                <a:solidFill>
                  <a:srgbClr val="ffff00"/>
                </a:solidFill>
                <a:latin typeface="Comic Sans MS"/>
              </a:rPr>
              <a:t>Λ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=0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43520" y="2190600"/>
            <a:ext cx="33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opez et al, PRL 82 (1999) 39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12840" y="2532240"/>
            <a:ext cx="5867280" cy="40384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V="1">
            <a:off x="3889440" y="4021200"/>
            <a:ext cx="428400" cy="676080"/>
          </a:xfrm>
          <a:prstGeom prst="downArrow">
            <a:avLst>
              <a:gd name="adj1" fmla="val 50000"/>
              <a:gd name="adj2" fmla="val 394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60960" y="3471840"/>
            <a:ext cx="485640" cy="700200"/>
          </a:xfrm>
          <a:prstGeom prst="downArrow">
            <a:avLst>
              <a:gd name="adj1" fmla="val 50000"/>
              <a:gd name="adj2" fmla="val 3604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62280" y="487836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W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08440" y="29368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PLAN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8080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Future bounds on </a:t>
            </a: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Comic Sans MS"/>
              </a:rPr>
              <a:t>eff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84320" y="1424160"/>
            <a:ext cx="2371680" cy="1455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pdated analys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arger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03200" y="251316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owen et al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41800" y="1733400"/>
            <a:ext cx="28400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ΔN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eff 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~ 3 (W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ΔN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eff 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~ 0.2 (Plan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4014720" y="1757520"/>
            <a:ext cx="549360" cy="961920"/>
          </a:xfrm>
          <a:prstGeom prst="downArrow">
            <a:avLst>
              <a:gd name="adj1" fmla="val 50000"/>
              <a:gd name="adj2" fmla="val 437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84320" y="3413160"/>
            <a:ext cx="7230960" cy="2017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195720" y="553068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Bashinsky &amp; Seljak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57680" y="3481560"/>
            <a:ext cx="1162080" cy="1949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2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The bound on </a:t>
            </a:r>
            <a:r>
              <a:rPr b="1" lang="el-GR" sz="3200" spc="-1" strike="noStrike">
                <a:solidFill>
                  <a:srgbClr val="ffffff"/>
                </a:solidFill>
                <a:latin typeface="Comic Sans MS"/>
              </a:rPr>
              <a:t>Σ</a:t>
            </a: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1" lang="el-GR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ν</a:t>
            </a: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 depends on the number of neutri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33560" y="1400040"/>
            <a:ext cx="753264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Example: in the 3+1 scenario, there are  4 neutrinos (including thermalized ster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ulate the bounds with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GB" sz="2000" spc="-1" strike="noStrike" baseline="-25000">
                <a:solidFill>
                  <a:srgbClr val="ffff00"/>
                </a:solidFill>
                <a:latin typeface="Comic Sans MS"/>
              </a:rPr>
              <a:t>ν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 &gt;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02200" y="1809720"/>
            <a:ext cx="39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bazajian 2002, di Bari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89080" y="2968560"/>
            <a:ext cx="8848440" cy="3808440"/>
            <a:chOff x="289080" y="2968560"/>
            <a:chExt cx="8848440" cy="380844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289080" y="2968560"/>
              <a:ext cx="4305240" cy="380844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202" name=""/>
            <p:cNvSpPr/>
            <p:nvPr/>
          </p:nvSpPr>
          <p:spPr>
            <a:xfrm>
              <a:off x="4832280" y="4338720"/>
              <a:ext cx="430524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Hannestad JCAP 0305 (2003) 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(also Elgarøy &amp; Lahav, JCAP 0304 (2003) 00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4832280" y="2968560"/>
              <a:ext cx="4152960" cy="109692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204" name=""/>
            <p:cNvSpPr/>
            <p:nvPr/>
          </p:nvSpPr>
          <p:spPr>
            <a:xfrm>
              <a:off x="2386080" y="3425760"/>
              <a:ext cx="48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99"/>
                  </a:solidFill>
                  <a:latin typeface="Times New Roman"/>
                </a:rPr>
                <a:t>3 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79880" y="3624120"/>
              <a:ext cx="48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99"/>
                  </a:solidFill>
                  <a:latin typeface="Times New Roman"/>
                </a:rPr>
                <a:t>4 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79880" y="5041800"/>
              <a:ext cx="48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99"/>
                  </a:solidFill>
                  <a:latin typeface="Times New Roman"/>
                </a:rPr>
                <a:t>5 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88680" y="6435720"/>
              <a:ext cx="121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Hannest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35000" y="4408560"/>
              <a:ext cx="86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95% 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59440" y="2968560"/>
              <a:ext cx="3033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WMAP + Other CMB + 2dF + HST + SN-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Σm</a:t>
            </a:r>
            <a:r>
              <a:rPr b="0" lang="en-GB" sz="3200" spc="-1" strike="noStrike" baseline="-25000">
                <a:solidFill>
                  <a:srgbClr val="ffff00"/>
                </a:solidFill>
                <a:latin typeface="Arial"/>
              </a:rPr>
              <a:t>ν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and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GB" sz="3200" spc="-1" strike="noStrike" baseline="-25000">
                <a:solidFill>
                  <a:srgbClr val="ffff00"/>
                </a:solidFill>
                <a:latin typeface="Comic Sans MS"/>
              </a:rPr>
              <a:t>eff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degene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362480" y="2158920"/>
            <a:ext cx="4781520" cy="4178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212" name=""/>
          <p:cNvGrpSpPr/>
          <p:nvPr/>
        </p:nvGrpSpPr>
        <p:grpSpPr>
          <a:xfrm>
            <a:off x="5680080" y="2616120"/>
            <a:ext cx="1824120" cy="1374120"/>
            <a:chOff x="5680080" y="2616120"/>
            <a:chExt cx="1824120" cy="1374120"/>
          </a:xfrm>
        </p:grpSpPr>
        <p:sp>
          <p:nvSpPr>
            <p:cNvPr id="213" name=""/>
            <p:cNvSpPr/>
            <p:nvPr/>
          </p:nvSpPr>
          <p:spPr>
            <a:xfrm>
              <a:off x="5680080" y="2616120"/>
              <a:ext cx="146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3300"/>
                  </a:solidFill>
                  <a:latin typeface="Arial"/>
                </a:rPr>
                <a:t>(0 eV,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0080" y="3073320"/>
              <a:ext cx="146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cc33"/>
                  </a:solidFill>
                  <a:latin typeface="Arial"/>
                </a:rPr>
                <a:t>(0 eV,7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80080" y="3530520"/>
              <a:ext cx="18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</a:rPr>
                <a:t>(2.25 eV,7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77840" y="1879560"/>
            <a:ext cx="4971960" cy="4457520"/>
            <a:chOff x="177840" y="1879560"/>
            <a:chExt cx="4971960" cy="445752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177840" y="1879560"/>
              <a:ext cx="4971960" cy="445752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  <p:grpSp>
          <p:nvGrpSpPr>
            <p:cNvPr id="218" name=""/>
            <p:cNvGrpSpPr/>
            <p:nvPr/>
          </p:nvGrpSpPr>
          <p:grpSpPr>
            <a:xfrm>
              <a:off x="1569960" y="4209840"/>
              <a:ext cx="1824120" cy="1374120"/>
              <a:chOff x="1569960" y="4209840"/>
              <a:chExt cx="1824120" cy="1374120"/>
            </a:xfrm>
          </p:grpSpPr>
          <p:sp>
            <p:nvSpPr>
              <p:cNvPr id="219" name=""/>
              <p:cNvSpPr/>
              <p:nvPr/>
            </p:nvSpPr>
            <p:spPr>
              <a:xfrm>
                <a:off x="1569960" y="4209840"/>
                <a:ext cx="146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3300"/>
                    </a:solidFill>
                    <a:latin typeface="Arial"/>
                  </a:rPr>
                  <a:t>(0 eV,3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569960" y="4667040"/>
                <a:ext cx="146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cc33"/>
                    </a:solidFill>
                    <a:latin typeface="Arial"/>
                  </a:rPr>
                  <a:t>(0 eV,7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69960" y="5124240"/>
                <a:ext cx="1824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Arial"/>
                  </a:rPr>
                  <a:t>(2.25 eV,7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1400" y="91800"/>
            <a:ext cx="72532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lysis with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Σm</a:t>
            </a:r>
            <a:r>
              <a:rPr b="0" lang="en-GB" sz="3600" spc="-1" strike="noStrike" baseline="-25000">
                <a:solidFill>
                  <a:srgbClr val="ffff00"/>
                </a:solidFill>
                <a:latin typeface="Times New Roman"/>
              </a:rPr>
              <a:t>ν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and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GB" sz="3200" spc="-1" strike="noStrike" baseline="-25000">
                <a:solidFill>
                  <a:srgbClr val="ffff00"/>
                </a:solidFill>
                <a:latin typeface="Comic Sans MS"/>
              </a:rPr>
              <a:t>eff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7080" y="5143680"/>
            <a:ext cx="27669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Hannestad &amp; Raffelt, JCAP 0404 (2004) 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rotty, Lesgourgues &amp; SP, PRD 69 (2004) 123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32080" y="4925880"/>
            <a:ext cx="5735880" cy="1594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225" name=""/>
          <p:cNvSpPr/>
          <p:nvPr/>
        </p:nvSpPr>
        <p:spPr>
          <a:xfrm>
            <a:off x="6310440" y="5076720"/>
            <a:ext cx="17906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σ upper bound 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Σ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ν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4392720" y="2484000"/>
            <a:ext cx="485640" cy="784440"/>
          </a:xfrm>
          <a:prstGeom prst="downArrow">
            <a:avLst>
              <a:gd name="adj1" fmla="val 50000"/>
              <a:gd name="adj2" fmla="val 40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06360" y="979560"/>
            <a:ext cx="3762360" cy="38098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35040" y="979560"/>
            <a:ext cx="3433680" cy="3533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5205240" y="979560"/>
            <a:ext cx="3762720" cy="38098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5533920" y="979560"/>
            <a:ext cx="3434040" cy="35528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63960" y="4514760"/>
            <a:ext cx="22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MAP + ACBAR + SDSS + 2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58520" y="4513320"/>
            <a:ext cx="23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revious + priors (HST + SN-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11400" y="91800"/>
            <a:ext cx="72532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lysis with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Σm</a:t>
            </a:r>
            <a:r>
              <a:rPr b="0" lang="en-GB" sz="3600" spc="-1" strike="noStrike" baseline="-25000">
                <a:solidFill>
                  <a:srgbClr val="ffff00"/>
                </a:solidFill>
                <a:latin typeface="Times New Roman"/>
              </a:rPr>
              <a:t>ν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and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GB" sz="3200" spc="-1" strike="noStrike" baseline="-25000">
                <a:solidFill>
                  <a:srgbClr val="ffff00"/>
                </a:solidFill>
                <a:latin typeface="Comic Sans MS"/>
              </a:rPr>
              <a:t>eff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74800" y="5143680"/>
            <a:ext cx="27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rotty, Lesgourgues &amp; SP, PRD 69 (2004) 123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4206960" y="2484000"/>
            <a:ext cx="485640" cy="784440"/>
          </a:xfrm>
          <a:prstGeom prst="downArrow">
            <a:avLst>
              <a:gd name="adj1" fmla="val 50000"/>
              <a:gd name="adj2" fmla="val 40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35080" y="979560"/>
            <a:ext cx="3762360" cy="38098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63400" y="979560"/>
            <a:ext cx="3434040" cy="3533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63960" y="4514760"/>
            <a:ext cx="22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MAP + ACBAR + SDSS + 2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97360" y="5118120"/>
            <a:ext cx="276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Hannestad &amp; Raffelt, </a:t>
            </a: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astro-ph/0607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4913280" y="1003320"/>
            <a:ext cx="41166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2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Non-standard relic neutri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552680"/>
            <a:ext cx="831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cosmological bounds on neutrino masses are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modifi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if relic neutrinos have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non-standard propertie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(or for non-standard mode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3090960"/>
            <a:ext cx="785808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wo examples where 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the cosmological bounds do not app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Massive neutrinos strongly coupled to a light scalar fiel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: they could annihilate when becoming N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Neutrinos coupled to the dark energy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: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DE density is a function of the neutrino mass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 (mass-varying neutrin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2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Non-thermal relic neutri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049400"/>
            <a:ext cx="8310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spectrum could be distorted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afte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neutrino decou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Example: decay of a light scalar after B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176880" y="1541520"/>
                <a:ext cx="12240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→</m:t>
                    </m:r>
                    <m:r>
                      <m:t xml:space="preserve">ν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-46080" y="2038320"/>
            <a:ext cx="9190080" cy="3859920"/>
            <a:chOff x="-46080" y="2038320"/>
            <a:chExt cx="9190080" cy="3859920"/>
          </a:xfrm>
        </p:grpSpPr>
        <p:sp>
          <p:nvSpPr>
            <p:cNvPr id="248" name=""/>
            <p:cNvSpPr/>
            <p:nvPr/>
          </p:nvSpPr>
          <p:spPr>
            <a:xfrm>
              <a:off x="3274920" y="5560920"/>
              <a:ext cx="586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Comic Sans MS"/>
                </a:rPr>
                <a:t>Cuoco, Lesgourgues, Mangano &amp; SP, PRD 71 (2005) 1235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-46080" y="2038320"/>
              <a:ext cx="4843440" cy="33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2962080" y="4775400"/>
              <a:ext cx="1292400" cy="10944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1900080" y="3056040"/>
              <a:ext cx="463680" cy="1555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14400" y="2719440"/>
              <a:ext cx="244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Thermal</a:t>
              </a:r>
              <a:r>
                <a:rPr b="0" lang="en-GB" sz="14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FD spectr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444840" y="3983040"/>
              <a:ext cx="1440" cy="4366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46320" y="3646440"/>
              <a:ext cx="244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Distortion from </a:t>
              </a:r>
              <a:r>
                <a:rPr b="0" lang="en-GB" sz="14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</a:t>
              </a: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 dec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883040" y="2286000"/>
            <a:ext cx="427032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CMB + LSS data still compatible with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large deviations from a thermal neutrino spectru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(degeneracy NT distortion – N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eff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* Better expectations for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future CMB + LSS data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, but model degeneracy NT- N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eff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re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143160" y="5022720"/>
                <a:ext cx="604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 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/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339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Future sensitivities to Σm</a:t>
            </a:r>
            <a:r>
              <a:rPr b="0" lang="en-GB" sz="2800" spc="-1" strike="noStrike" baseline="-25000">
                <a:solidFill>
                  <a:srgbClr val="ffff00"/>
                </a:solidFill>
                <a:latin typeface="Times New Roman"/>
              </a:rPr>
              <a:t>ν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28080" y="2354400"/>
            <a:ext cx="5395680" cy="29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CMB (T+P) + galaxy redshift surve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CMB (T+P) and CMB len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Weak lensing surve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Weak lensing surveys + CMB len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33560" y="1400040"/>
            <a:ext cx="75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future cosmological data will be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280800"/>
            <a:ext cx="31496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PLANCK+SD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477040" y="2793960"/>
            <a:ext cx="3245760" cy="2422080"/>
            <a:chOff x="5477040" y="2793960"/>
            <a:chExt cx="3245760" cy="2422080"/>
          </a:xfrm>
        </p:grpSpPr>
        <p:sp>
          <p:nvSpPr>
            <p:cNvPr id="262" name=""/>
            <p:cNvSpPr/>
            <p:nvPr/>
          </p:nvSpPr>
          <p:spPr>
            <a:xfrm>
              <a:off x="5894280" y="4635360"/>
              <a:ext cx="282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Comic Sans MS"/>
                </a:rPr>
                <a:t>Lesgourgues, SP &amp; Perotto, PRD 70 (2004) 0450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98800" y="2793960"/>
              <a:ext cx="2862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Σm </a:t>
              </a:r>
              <a:r>
                <a:rPr b="0" lang="en-GB" sz="1600" spc="-1" strike="noStrike">
                  <a:solidFill>
                    <a:srgbClr val="ffff00"/>
                  </a:solidFill>
                  <a:latin typeface="Comic Sans MS"/>
                </a:rPr>
                <a:t>detectable at 2σ</a:t>
              </a: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 if larger th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77040" y="3375000"/>
              <a:ext cx="2815920" cy="1260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457200"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0.21 eV  (PLANCK+SDS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0.13 eV  (CMBpol+SDS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355680" y="2793960"/>
            <a:ext cx="4681440" cy="182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ducial cosmological mod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Ω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h , 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τ,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Σ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ν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.024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0.148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0.70 , 0.98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.1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Σm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ν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0640" y="843120"/>
            <a:ext cx="78804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Fisher matrix analysis: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expected sensitivities assuming a fiducial cosmological model, for future experiments with known specif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708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Effect of massive neutrinos on the CMB and Matter Power Spec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5120" y="1181160"/>
            <a:ext cx="5464080" cy="5475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564240" y="5900760"/>
            <a:ext cx="234648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Max Teg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1300" spc="-1" strike="noStrike">
                <a:solidFill>
                  <a:srgbClr val="ffff00"/>
                </a:solidFill>
                <a:latin typeface="Comic Sans MS"/>
              </a:rPr>
              <a:t>www.hep.upenn.edu/~max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0" r="33775" b="0"/>
          <a:stretch/>
        </p:blipFill>
        <p:spPr>
          <a:xfrm>
            <a:off x="6183360" y="2109960"/>
            <a:ext cx="2851200" cy="3173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24264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Future sensitivities to Σm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ν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: new ideas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2520" y="295200"/>
            <a:ext cx="830556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weak gravitational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        and             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CMB len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             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len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52520" y="1892160"/>
            <a:ext cx="3809880" cy="35528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56240" y="4483800"/>
            <a:ext cx="4522320" cy="228816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o bias uncertain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mall scales much clos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o linear reg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omograph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D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5429160" y="1911240"/>
            <a:ext cx="3533760" cy="35337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793400" y="4807440"/>
            <a:ext cx="4496040" cy="142632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akes CMB sensitive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maller neutrino m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24264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Future sensitivities to Σm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ν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: new ideas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2520" y="1944720"/>
            <a:ext cx="3828960" cy="4021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ensitivity of future weak lensing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(4000º)</a:t>
            </a:r>
            <a:r>
              <a:rPr b="0" lang="fr-FR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to m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σ(m</a:t>
            </a:r>
            <a:r>
              <a:rPr b="0" lang="fr-FR" sz="20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ν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) ~ 0.1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bazajian &amp; Dodel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PRL 91 (2003) 0413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37240" y="1944720"/>
            <a:ext cx="4020840" cy="4021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ensitivity of C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(primary + lensin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o m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σ(m</a:t>
            </a:r>
            <a:r>
              <a:rPr b="0" lang="fr-FR" sz="20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ν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) = 0.15 eV (Plan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σ(m</a:t>
            </a:r>
            <a:r>
              <a:rPr b="0" lang="fr-FR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ν</a:t>
            </a: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) = 0.044 eV (CMBp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Kaplinghat, Knox &amp; S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PRL 91 (2003) 2413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2520" y="295200"/>
            <a:ext cx="830556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weak gravitational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        and             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CMB len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             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len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CMB lensing: recent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rcRect l="0" t="0" r="39874" b="0"/>
          <a:stretch/>
        </p:blipFill>
        <p:spPr>
          <a:xfrm>
            <a:off x="1082520" y="1641600"/>
            <a:ext cx="7120080" cy="2528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079280" y="944640"/>
            <a:ext cx="5467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M</a:t>
            </a:r>
            <a:r>
              <a:rPr b="1" lang="el-GR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in eV for future CMB experiments alon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rcRect l="0" t="0" r="77677" b="0"/>
          <a:stretch/>
        </p:blipFill>
        <p:spPr>
          <a:xfrm>
            <a:off x="1082520" y="4170240"/>
            <a:ext cx="2619360" cy="2529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rcRect l="63799" t="0" r="0" b="0"/>
          <a:stretch/>
        </p:blipFill>
        <p:spPr>
          <a:xfrm>
            <a:off x="3701880" y="4170240"/>
            <a:ext cx="4287960" cy="2529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5560920" y="1955880"/>
            <a:ext cx="1698840" cy="4728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81760" y="94464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Comic Sans MS"/>
              </a:rPr>
              <a:t>Lesgourgues et al,            PRD 73 (2006) 0450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12560" y="37800"/>
            <a:ext cx="84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Comic Sans MS"/>
              </a:rPr>
              <a:t>Summary of future sensi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77920" y="1181160"/>
            <a:ext cx="8866080" cy="43466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77920" y="5715000"/>
            <a:ext cx="455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Lesgourgues &amp; SP, Phys. Rep. 429 (2006) 3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08240" y="5719680"/>
            <a:ext cx="156924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Future cosm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shear surv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580080" y="4807080"/>
            <a:ext cx="1013040" cy="90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6330960" y="3906360"/>
            <a:ext cx="249120" cy="180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67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End of 3rd l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538440" y="1590840"/>
            <a:ext cx="340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9348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eutrinos as Hot Dark M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0520" y="1498680"/>
            <a:ext cx="838980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Massive Neutrinos can still be subdominant DM: 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limits on m</a:t>
            </a:r>
            <a:r>
              <a:rPr b="0" lang="en-GB" sz="2200" spc="-1" strike="noStrike" baseline="-25000">
                <a:solidFill>
                  <a:srgbClr val="ffff00"/>
                </a:solidFill>
                <a:latin typeface="Times New Roman"/>
              </a:rPr>
              <a:t>ν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 from Structure Formation (combined with other cosmological dat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874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How to get a bound (measurement) of neutrino masses from Cosm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887400" y="2917800"/>
            <a:ext cx="5592240" cy="1833120"/>
            <a:chOff x="887400" y="2917800"/>
            <a:chExt cx="5592240" cy="1833120"/>
          </a:xfrm>
        </p:grpSpPr>
        <p:grpSp>
          <p:nvGrpSpPr>
            <p:cNvPr id="69" name=""/>
            <p:cNvGrpSpPr/>
            <p:nvPr/>
          </p:nvGrpSpPr>
          <p:grpSpPr>
            <a:xfrm>
              <a:off x="887400" y="2917800"/>
              <a:ext cx="2497680" cy="1389960"/>
              <a:chOff x="887400" y="2917800"/>
              <a:chExt cx="2497680" cy="1389960"/>
            </a:xfrm>
          </p:grpSpPr>
          <p:pic>
            <p:nvPicPr>
              <p:cNvPr id="7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87400" y="2917800"/>
                <a:ext cx="2497680" cy="126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7040" y="4123440"/>
                <a:ext cx="2107800" cy="184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2" name="" descr=""/>
            <p:cNvPicPr/>
            <p:nvPr/>
          </p:nvPicPr>
          <p:blipFill>
            <a:blip r:embed="rId3"/>
            <a:stretch/>
          </p:blipFill>
          <p:spPr>
            <a:xfrm>
              <a:off x="3480480" y="2917800"/>
              <a:ext cx="2999160" cy="1833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73" name=""/>
            <p:cNvSpPr/>
            <p:nvPr/>
          </p:nvSpPr>
          <p:spPr>
            <a:xfrm>
              <a:off x="2935080" y="4122360"/>
              <a:ext cx="897120" cy="42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897440" y="1598760"/>
            <a:ext cx="971640" cy="857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7800" y="1492200"/>
            <a:ext cx="367524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ducial cosmological mod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Ω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h , 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τ,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Σ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ν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93320" y="5321160"/>
            <a:ext cx="177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PARAME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ESTIM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6821640" y="3144240"/>
            <a:ext cx="785520" cy="866520"/>
          </a:xfrm>
          <a:custGeom>
            <a:avLst/>
            <a:gdLst>
              <a:gd name="textAreaLeft" fmla="*/ 360 w 785520"/>
              <a:gd name="textAreaRight" fmla="*/ 786240 w 785520"/>
              <a:gd name="textAreaTop" fmla="*/ -360 h 866520"/>
              <a:gd name="textAreaBottom" fmla="*/ 866520 h 86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94280" y="1833480"/>
            <a:ext cx="618840" cy="486000"/>
          </a:xfrm>
          <a:prstGeom prst="rightArrow">
            <a:avLst>
              <a:gd name="adj1" fmla="val 50000"/>
              <a:gd name="adj2" fmla="val 31833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70760" y="1743120"/>
            <a:ext cx="618840" cy="485640"/>
          </a:xfrm>
          <a:prstGeom prst="rightArrow">
            <a:avLst>
              <a:gd name="adj1" fmla="val 50000"/>
              <a:gd name="adj2" fmla="val 3185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7068960" y="1598760"/>
            <a:ext cx="1657440" cy="868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V="1">
            <a:off x="1247760" y="4898880"/>
            <a:ext cx="830160" cy="1184400"/>
          </a:xfrm>
          <a:custGeom>
            <a:avLst/>
            <a:gdLst>
              <a:gd name="textAreaLeft" fmla="*/ 0 w 830160"/>
              <a:gd name="textAreaRight" fmla="*/ 830520 w 830160"/>
              <a:gd name="textAreaTop" fmla="*/ 360 h 1184400"/>
              <a:gd name="textAreaBottom" fmla="*/ 1185120 h 118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2509920" y="5226120"/>
            <a:ext cx="971640" cy="857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094280" y="5468760"/>
            <a:ext cx="1050840" cy="486000"/>
          </a:xfrm>
          <a:prstGeom prst="rightArrow">
            <a:avLst>
              <a:gd name="adj1" fmla="val 50000"/>
              <a:gd name="adj2" fmla="val 54056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3160" y="3780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ccff"/>
                </a:solidFill>
                <a:latin typeface="Comic Sans MS"/>
              </a:rPr>
              <a:t>Cosmologic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7960" y="966960"/>
            <a:ext cx="7626240" cy="59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ccccff"/>
                </a:solidFill>
                <a:latin typeface="Comic Sans MS"/>
              </a:rPr>
              <a:t>CMB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 Temperature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: WMAP plus data from other experiments at large multipoles (CBI, ACBAR, VSA…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ccccff"/>
                </a:solidFill>
                <a:latin typeface="Comic Sans MS"/>
              </a:rPr>
              <a:t>CMB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 Polarization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: WMAP,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ccccff"/>
                </a:solidFill>
                <a:latin typeface="Comic Sans MS"/>
              </a:rPr>
              <a:t>Large Scale Structure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200" spc="-1" strike="noStrike">
                <a:solidFill>
                  <a:srgbClr val="ff3300"/>
                </a:solidFill>
                <a:latin typeface="Comic Sans MS"/>
              </a:rPr>
              <a:t>*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 Galaxy Clustering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(2dF,SD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200" spc="-1" strike="noStrike">
                <a:solidFill>
                  <a:srgbClr val="ff3300"/>
                </a:solidFill>
                <a:latin typeface="Comic Sans MS"/>
              </a:rPr>
              <a:t>*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 Bias (Galaxy, …):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Amplitude of the Matter P(k)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(SDSS,</a:t>
            </a:r>
            <a:r>
              <a:rPr b="0" lang="da-DK" sz="2200" spc="-1" strike="noStrike">
                <a:solidFill>
                  <a:srgbClr val="ffffff"/>
                </a:solidFill>
                <a:latin typeface="Comic Sans MS"/>
              </a:rPr>
              <a:t>σ</a:t>
            </a:r>
            <a:r>
              <a:rPr b="0" lang="da-DK" sz="2200" spc="-1" strike="noStrike" baseline="-25000">
                <a:solidFill>
                  <a:srgbClr val="ffffff"/>
                </a:solidFill>
                <a:latin typeface="Comic Sans MS"/>
              </a:rPr>
              <a:t>8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200" spc="-1" strike="noStrike">
                <a:solidFill>
                  <a:srgbClr val="ff3300"/>
                </a:solidFill>
                <a:latin typeface="Comic Sans MS"/>
              </a:rPr>
              <a:t>*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Lyman-α forest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: </a:t>
            </a:r>
            <a:r>
              <a:rPr b="0" lang="da-DK" sz="2200" spc="-1" strike="noStrike">
                <a:solidFill>
                  <a:srgbClr val="ffffff"/>
                </a:solidFill>
                <a:latin typeface="Comic Sans MS"/>
              </a:rPr>
              <a:t>independent measurement of </a:t>
            </a:r>
            <a:r>
              <a:rPr b="0" lang="da-DK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2200" spc="-1" strike="noStrike">
                <a:solidFill>
                  <a:srgbClr val="ffffff"/>
                </a:solidFill>
                <a:latin typeface="Comic Sans MS"/>
              </a:rPr>
              <a:t>power on small sc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200" spc="-1" strike="noStrike">
                <a:solidFill>
                  <a:srgbClr val="ff3300"/>
                </a:solidFill>
                <a:latin typeface="Comic Sans MS"/>
              </a:rPr>
              <a:t>*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 Baryon acoustic oscillations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(SD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ccccff"/>
                </a:solidFill>
                <a:latin typeface="Comic Sans MS"/>
              </a:rPr>
              <a:t>Bounds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on parameters from other data: 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SNIa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(Ω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), 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HST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(h)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3160" y="3780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ccff"/>
                </a:solidFill>
                <a:latin typeface="Comic Sans MS"/>
              </a:rPr>
              <a:t>Cosmological Parameters: exam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70040" y="1181160"/>
            <a:ext cx="5667480" cy="4174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38880" y="5532480"/>
            <a:ext cx="350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SDSS Coll, PRD 69 (2004) 1035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87480" y="2598840"/>
            <a:ext cx="5303880" cy="231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160" y="57132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Comic Sans MS"/>
              </a:rPr>
              <a:t>Cosmological bounds on neutrino mass(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6640" y="1714680"/>
            <a:ext cx="7778880" cy="875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GB" sz="2400" spc="-1" strike="noStrike">
                <a:solidFill>
                  <a:srgbClr val="990000"/>
                </a:solidFill>
                <a:latin typeface="Comic Sans MS"/>
              </a:rPr>
              <a:t>unique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cosmological bound on m</a:t>
            </a:r>
            <a:r>
              <a:rPr b="0" lang="en-GB" sz="24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ν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00"/>
                </a:solidFill>
                <a:latin typeface="Comic Sans MS"/>
              </a:rPr>
              <a:t>DOES NOT exist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344680" y="2414520"/>
            <a:ext cx="4394160" cy="4024440"/>
            <a:chOff x="2344680" y="2414520"/>
            <a:chExt cx="4394160" cy="402444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0" r="37018" b="0"/>
            <a:stretch/>
          </p:blipFill>
          <p:spPr>
            <a:xfrm>
              <a:off x="2344680" y="2414520"/>
              <a:ext cx="4394160" cy="402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" name=""/>
            <p:cNvGrpSpPr/>
            <p:nvPr/>
          </p:nvGrpSpPr>
          <p:grpSpPr>
            <a:xfrm>
              <a:off x="3684600" y="5027400"/>
              <a:ext cx="406440" cy="459720"/>
              <a:chOff x="3684600" y="5027400"/>
              <a:chExt cx="406440" cy="459720"/>
            </a:xfrm>
          </p:grpSpPr>
          <p:sp>
            <p:nvSpPr>
              <p:cNvPr id="95" name=""/>
              <p:cNvSpPr/>
              <p:nvPr/>
            </p:nvSpPr>
            <p:spPr>
              <a:xfrm>
                <a:off x="3684600" y="5084280"/>
                <a:ext cx="406440" cy="3153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73160" y="5027400"/>
                <a:ext cx="31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imes New Roman"/>
                  </a:rPr>
                  <a:t>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2622600" y="4889520"/>
              <a:ext cx="560160" cy="38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3160" y="57132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Comic Sans MS"/>
              </a:rPr>
              <a:t>Cosmological bounds on neutrino mass(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6640" y="1714680"/>
            <a:ext cx="7778880" cy="875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GB" sz="2400" spc="-1" strike="noStrike">
                <a:solidFill>
                  <a:srgbClr val="990000"/>
                </a:solidFill>
                <a:latin typeface="Comic Sans MS"/>
              </a:rPr>
              <a:t>unique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cosmological bound on m</a:t>
            </a:r>
            <a:r>
              <a:rPr b="0" lang="en-GB" sz="24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ν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00"/>
                </a:solidFill>
                <a:latin typeface="Comic Sans MS"/>
              </a:rPr>
              <a:t>DOES NOT exist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6640" y="2390760"/>
            <a:ext cx="816768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Different analyses have found upper bounds on neutrino masses, since they depend 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e combination of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 cosmological data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e assumed 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cosmological model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: number of parameters (problem of parameter degenerac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properties of relic neutrin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6T16:19:53Z</dcterms:created>
  <dc:creator>SERGIO  PASTOR</dc:creator>
  <dc:description/>
  <dc:language>en-US</dc:language>
  <cp:lastModifiedBy>Sergio Pastor</cp:lastModifiedBy>
  <dcterms:modified xsi:type="dcterms:W3CDTF">2006-08-23T08:49:15Z</dcterms:modified>
  <cp:revision>781</cp:revision>
  <dc:subject/>
  <dc:title>Neutrino oscillations in  dense neutrino me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is documentos\Seminarios\NuSelf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